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7FF93-B046-498F-8421-625242F822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F0C5-3D93-4355-A6D4-0ED276068D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AE8FD-BF3F-46DE-A567-88EC001357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25302-DF7D-4E84-95FA-9F614C7FAC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5EC65-B1DD-4F71-98E7-E3E3C9116F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B7891-6CBD-4521-847A-C9FC6CD3A5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5335-6D70-4AB0-9D54-DEB10D4764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9492-3CFD-46EA-B5A1-8BB69D9B7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EFC1-B6EB-417D-8815-45FDED50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B821-1224-4FC8-83EF-6BB7CD9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0C3C-5857-44BA-809B-294379272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FBC3-EF95-447D-B870-5AD13C36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B351-EF9C-4BAE-9FC1-6FAD0DF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1A11-30B6-4296-8330-11A5D9F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D335-BDFA-4E4B-8D0D-ED0BB247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6A3E-5075-4F50-9BE7-F8C2B70E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A99C-8C54-4854-A4D4-5E33C3E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3326-857C-4BD3-B5B6-4A08F710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0674-23E9-4434-AC8B-7F63CAA0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F985BC-FC44-4322-9182-1CB8417E9C8B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función de nut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QUÉ ES LA DIF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Qué es la dif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268280"/>
            <a:ext cx="7705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ste en el paso de gases del medio externo a la sangre y viceversa, por tejidos muy finos que permiten dicho paso de g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l líquido circulante llega a los órganos respiratorios, llega cargado de dióxido de carbono y pobre en oxígeno. Por el contrari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ire llega cargado de oxígeno y con poco dióxido de car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 se produce la difusión: el oxígeno irá de donde hay más concentración a donde hay menos (del aire al líquido circulante),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dióxido de carbono hará lo mismo (irá del líquido circulante al air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fusión en los sere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979640" y="5040360"/>
            <a:ext cx="4978440" cy="92160"/>
          </a:xfrm>
          <a:prstGeom prst="roundRect">
            <a:avLst>
              <a:gd name="adj" fmla="val 172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619280" y="4319640"/>
            <a:ext cx="1260360" cy="360360"/>
          </a:xfrm>
          <a:prstGeom prst="rightArrow">
            <a:avLst>
              <a:gd name="adj1" fmla="val 50000"/>
              <a:gd name="adj2" fmla="val 87438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6300720" y="4319640"/>
            <a:ext cx="1260720" cy="360360"/>
          </a:xfrm>
          <a:prstGeom prst="rightArrow">
            <a:avLst>
              <a:gd name="adj1" fmla="val 50000"/>
              <a:gd name="adj2" fmla="val 87463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1619280" y="5400720"/>
            <a:ext cx="1260360" cy="360360"/>
          </a:xfrm>
          <a:prstGeom prst="rightArrow">
            <a:avLst>
              <a:gd name="adj1" fmla="val 50000"/>
              <a:gd name="adj2" fmla="val 87438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6300720" y="5400720"/>
            <a:ext cx="1260720" cy="360360"/>
          </a:xfrm>
          <a:prstGeom prst="rightArrow">
            <a:avLst>
              <a:gd name="adj1" fmla="val 50000"/>
              <a:gd name="adj2" fmla="val 87463"/>
            </a:avLst>
          </a:pr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 rot="9120000">
            <a:off x="3783960" y="4968000"/>
            <a:ext cx="1439640" cy="179640"/>
          </a:xfrm>
          <a:prstGeom prst="leftArrow">
            <a:avLst>
              <a:gd name="adj1" fmla="val 50000"/>
              <a:gd name="adj2" fmla="val 200351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12600000">
            <a:off x="3784320" y="5046480"/>
            <a:ext cx="1439640" cy="179280"/>
          </a:xfrm>
          <a:prstGeom prst="leftArrow">
            <a:avLst>
              <a:gd name="adj1" fmla="val 50000"/>
              <a:gd name="adj2" fmla="val 200753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11280" y="4221000"/>
            <a:ext cx="9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rico en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7559640" y="4176720"/>
            <a:ext cx="90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rico en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7559640" y="531504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gre rica en 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39640" y="5280120"/>
            <a:ext cx="126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gre rica en C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5148360" y="5400720"/>
            <a:ext cx="5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es-ES" sz="1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5219640" y="450072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66cc"/>
                </a:solidFill>
                <a:latin typeface="Arial"/>
              </a:rPr>
              <a:t>CO</a:t>
            </a:r>
            <a:r>
              <a:rPr b="0" lang="es-ES" sz="1000" spc="-1" strike="noStrike">
                <a:solidFill>
                  <a:srgbClr val="0066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6948360" y="4751280"/>
            <a:ext cx="180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jido de intercamb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Qué es la dif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34920" y="1347840"/>
            <a:ext cx="7885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fusión se puede produci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A través de la piel. Como en las esponjas, los pólipos, los gusan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y algunos anfi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Por branquias. Como en los moluscos, los crustáceos, los pec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y algunos anfi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Por tráqueas. En los insec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Por pulmones. En los anfibios, los reptiles, las aves y los mamíf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difusión en los sere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1440000" y="3780000"/>
            <a:ext cx="2160360" cy="233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2886120" y="3781440"/>
            <a:ext cx="1973160" cy="143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6659640" y="3870360"/>
            <a:ext cx="2233440" cy="170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4824360" y="4680000"/>
            <a:ext cx="19796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0-04T16:36:19Z</dcterms:modified>
  <cp:revision>47</cp:revision>
  <dc:subject/>
  <dc:title>Diapositiva 1</dc:title>
</cp:coreProperties>
</file>